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0E9-A7AD-4922-8EE7-388484FE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421-0D7A-4896-A3B7-0FAF82B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380-95D5-4CBB-ACDB-7C08E639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0C4-03B1-44C4-B2AF-701F3DB0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184-FB10-4438-B872-BB6178C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A0E-748A-456C-8B7F-121C28EA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D29-5A81-4A5E-895F-A07EDA1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170-D401-48E4-83BF-EFE4745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53A-3203-47BF-A0EC-04BAFE7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0A3-D809-49A7-BDCB-6E7E5A9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B9E-47EA-4C0E-887A-A73E271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8C8-1190-4130-886A-E8F3A9D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B351-4DAE-459E-AE3C-21BC8FC67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Resu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GLC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Studie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ll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021600">
            <a:off x="323640" y="406080"/>
            <a:ext cx="343188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327640" cy="63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when you have little or no actual work experience in the area in which you're looking fo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n't worked bef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talents and skills you haven't used in a particular job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ve had a variety of jobs in the past which aren't connected;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ve done mostly temporary work in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4708440" cy="6054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s scan resumes in 10 to 12 seco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sume is enough for every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need to develop different res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ume should target each type of work within a specific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6120" y="1382760"/>
            <a:ext cx="839952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r resume 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llingness to work hard isn’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n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how the employer that you can contribute to the success of the bus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pecific – name essential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skills clear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754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how your ski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help the 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4379760" cy="4264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sume is a marketing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exaggerate, and don’t pretend you have done things you hav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truth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 stick to the cold, hard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0132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is the only thing that mat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93116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earance counts: Business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imes New Roman 12 point black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read, for spelling and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nological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education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loyers prefer thi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off with a job objective or a personal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education, work and volunte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Chronolog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23:45:31Z</dcterms:created>
  <dc:creator>meridyth taylor</dc:creator>
  <dc:description/>
  <dc:language>en-US</dc:language>
  <cp:lastModifiedBy>meridyth taylor</cp:lastModifiedBy>
  <dcterms:modified xsi:type="dcterms:W3CDTF">2010-10-24T01:21:47Z</dcterms:modified>
  <cp:revision>3</cp:revision>
  <dc:subject/>
  <dc:title>The Resume </dc:title>
</cp:coreProperties>
</file>